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032-46B7-4B7E-B649-7C558D0D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785-871D-40CE-BC1D-DD17A80D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EB4-A5B7-4E11-9A9B-F4C14B26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7BE-436B-4507-89E0-A91487DB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A409-F962-48DB-B6C2-D61CA75C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C21E-3615-4B04-A39A-F7E33079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48DD-C080-483A-A49A-076E2B16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4C5D-1834-49D1-B727-71AA817A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6B3F-6E45-4D0C-B0E9-C62A2C0A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CCBD-72B2-40B5-A72E-F76E1246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D5D0-15EA-4068-B9B6-B2B85D67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9BB-D536-4F04-B932-633613EE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1278-DF0B-45ED-813F-71D185D8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0AE6-85DD-4275-A2CC-11D73679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095C-8B8F-44AE-907E-61CD5A1C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3910-ED67-4C2E-B452-05431CD8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8C98-28C3-42EE-931F-A18C663C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98EB-EEEC-406B-A248-8B71B8BB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3C2-C13E-4C3D-9D0F-971B3F0E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D01-551F-4D5D-A38A-26E8500B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AAC3-D526-4F00-A6D9-7AE4FCF8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62A-4788-475B-BD15-7E40DFE4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4D60-AB67-416F-8F7D-2F9D33AB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A1AF-1F55-4D14-A4DD-FE860814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936A-2112-45AE-B61B-DFE025EE0E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542C-53FA-4520-9E0A-2F61284164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РГАНИЗАЦИ</a:t>
            </a: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ОНЕ ПРОМЕНЕ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тратегија управљања промена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600200"/>
          <a:ext cx="8763120" cy="516096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190600"/>
                <a:gridCol w="2190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ционално (емпиричка) стратег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тегија моћи и прину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рмативно реедукативна стратег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птоставке о људ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Људи су рационална бић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Људи су политичка бић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Људи су социјална бић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тпоставке о организациј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ја је рационално оруђ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ја је политичке ар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ја је социјални сис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. одлучи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ишћ. моћ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. конст. реал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етач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ћ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д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ац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зго на д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зго на д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оба см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т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аџмен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аџмен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аџм. и запос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шће запосл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ома н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ја запосл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хватањ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ушно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већено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пор промен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ома вис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промена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азлика у стању посматране појаве (објекта) између временске тач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0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1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прављање променама је: менаџерска пракса, наставна дисциплина, научно-истраживачка област, домен консалт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прављање променама се убраја у обавезне менаџерске компетен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лога људи у променама: активна и паси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Људи чине промене у организацији, али их и до(пре)живљава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ласификација промена према циљ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752480"/>
          <a:ext cx="8763120" cy="50421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А АДАПТАЦИЈА (ЕКСТЕРНИ МОТО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И РАЗВОЈ (ИНТЕРНИ МОТО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рха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агођавање окружењ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ој (иновирање) компет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љ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ољшање перформан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ој компет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ор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уж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ја, менаџ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ор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стерни: промене у окружењ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ни: креативност, постигну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82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ога менаџ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сивна, мала дискре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а, велика дискре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ласификација промена према карактеру проце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Дубина про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кременталне, плит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адикалне, дуб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Ширина про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арцијалне, у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веобухватне, ши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Брзина про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Еволути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еволутив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ласификација промена према садржај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38080" y="1981080"/>
          <a:ext cx="7467840" cy="4156200"/>
        </p:xfrm>
        <a:graphic>
          <a:graphicData uri="http://schemas.openxmlformats.org/drawingml/2006/table">
            <a:tbl>
              <a:tblPr/>
              <a:tblGrid>
                <a:gridCol w="2286000"/>
                <a:gridCol w="2514600"/>
                <a:gridCol w="2667240"/>
              </a:tblGrid>
              <a:tr h="13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АЛНЕ, ТВРДЕ КОМПОНЕН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ФОРМАЛНЕ, МЕКЕ КОМПОНЕН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34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ИЧКЕ ВАРИЈАБЛЕ: СИСТЕМИ И СТРУКТУ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АЈН: Организациона структура,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АШАЊЕ: Култура, неформалне групе, структура моћ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НАМИЧКЕ ВАРИЈАБЛЕ: ПРОЦЕ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ОВНИ ПРОЦЕ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ПЕРСОНАЛНИ ПРОЦЕСИ: групни процеси, вођство, конфликти, политички процеси, комуник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ласификација промена према осталим критеријум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Детерминиса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понт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лани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Вр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нтиципатив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еактив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Ни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једина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Гру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рганизац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ласификација промена према стилу вођењ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80880" y="1600200"/>
          <a:ext cx="8534520" cy="5029200"/>
        </p:xfrm>
        <a:graphic>
          <a:graphicData uri="http://schemas.openxmlformats.org/drawingml/2006/table">
            <a:tbl>
              <a:tblPr/>
              <a:tblGrid>
                <a:gridCol w="2362320"/>
                <a:gridCol w="3124080"/>
                <a:gridCol w="304812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РЕКТИ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РТИЦИПАТИ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ац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зго на д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зго на го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ога лид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зионар и план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тор, мотиватор, фацилит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ога запосле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ршиоц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атори и извршио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13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држај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ички и формални: структура, системи, пословни проце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намички и неформални: култура и интерперсонални проце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ку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т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Људ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ога консултан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спер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цилитат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еорије управљања промена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рганизациони разво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тратешке промене организације или организациона трансформ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ституционална теорија про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опадање (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ecline),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мањивање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(downsizing)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 заокрет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(turnrou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Животни циклус организ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прављање укупним квалитетом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QM – Total Quality Manag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рганизационо у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еорије управљања промена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Теорије континуалних адаптивних пром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омене кроз импровиз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омене у условима неизве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огички инкрементал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еорија популационе еколо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еинжењеринг пословних процес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usiness Process Reengineering – BP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10T22:30:48Z</dcterms:modified>
  <cp:revision>191</cp:revision>
  <dc:subject/>
  <dc:title>Soft and Hard Skills Development: A Current Situation in Serbian Companies</dc:title>
</cp:coreProperties>
</file>